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294322-1F1E-4495-B796-7C6EAB3F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B64-EBA9-4498-8D05-47AA29B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C0A-6FEB-46D1-BFB7-0685BB7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B6D-763A-48C9-8562-47610847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0B6-96D8-4000-ADE0-8ADDF4B4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3C4-23AE-4225-9256-F935A36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FA0-AD54-4746-8B92-DABEAFE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F4F-DA79-4D21-838A-44BA2ED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2B7-75B6-423E-8306-E71C1CC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219-F4C2-4543-AEB6-0648FF47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2E0-C7F8-4979-B423-902EE3B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B2F-B8F7-49B3-8446-0A69CE5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006-81D0-47DF-A167-46CDF56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7EC1-4BAB-407C-9D02-3E894BCD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alitylondonapartments.co.uk/index.php/215/valentines-day-london-romeo-juliet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rainyquote.com/quotes/quotes/m/michelange161309.html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uff.co.nz/4466060a456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day, August 25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aking the Scholastic Reading Inventory (S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447920"/>
            <a:ext cx="1143000" cy="2266920"/>
            <a:chOff x="457200" y="1447920"/>
            <a:chExt cx="1143000" cy="2266920"/>
          </a:xfrm>
        </p:grpSpPr>
        <p:pic>
          <p:nvPicPr>
            <p:cNvPr id="53" name="" descr="The Tiger Rising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1143000" cy="19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8920" y="33465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20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467480" y="1447920"/>
            <a:ext cx="1143000" cy="2274120"/>
            <a:chOff x="7467480" y="1447920"/>
            <a:chExt cx="1143000" cy="2274120"/>
          </a:xfrm>
        </p:grpSpPr>
        <p:pic>
          <p:nvPicPr>
            <p:cNvPr id="5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467480" y="1447920"/>
              <a:ext cx="1143000" cy="18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01480" y="33537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60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12960" y="3800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0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No Image Found"/>
          <p:cNvPicPr/>
          <p:nvPr/>
        </p:nvPicPr>
        <p:blipFill>
          <a:blip r:embed="rId4"/>
          <a:stretch/>
        </p:blipFill>
        <p:spPr>
          <a:xfrm>
            <a:off x="5257800" y="1905120"/>
            <a:ext cx="1143000" cy="1895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0640" y="3833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0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ook cover of &#10;&#13;To Kill a Mockingbird &#10;&#13;by&#10;&#13;Harper Lee"/>
          <p:cNvPicPr/>
          <p:nvPr/>
        </p:nvPicPr>
        <p:blipFill>
          <a:blip r:embed="rId5"/>
          <a:stretch/>
        </p:blipFill>
        <p:spPr>
          <a:xfrm>
            <a:off x="2822400" y="1905120"/>
            <a:ext cx="1140120" cy="191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3657600"/>
            <a:ext cx="1904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y Do I Have to Take This Test AGAIN?!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The purpose of the SRI is to describe what level of text complexity a student can read and comprehend with 75% accuracy, regardless of the student’s initial ability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114800"/>
            <a:ext cx="190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at is the Lexile Scale?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The Lexile Framework provides a common scale for matching reader ability and text difficulty.  The score range is 100L to 1700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267080"/>
            <a:ext cx="1905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at is an S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SEM stands for Standard Error of measurement and it indicated to what degree a student’s test score reflects his/her “true ability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657600"/>
            <a:ext cx="1904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en have I shown progre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A student has shown change in ability that is not attributable to chance, when their score exceeds his original score by the number of points that represent two (2) S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990720"/>
            <a:ext cx="5715000" cy="84456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63600"/>
                <a:tab algn="l" pos="2743200"/>
                <a:tab algn="l" pos="4464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ow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ici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63600"/>
                <a:tab algn="l" pos="2743200"/>
                <a:tab algn="l" pos="4464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L-5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0L-9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L-11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00L-1700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September 5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38080"/>
            <a:ext cx="426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rn in ALL of your work tod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Tiger R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76160" y="32767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Harrington"/>
              </a:rPr>
              <a:t>The Tiger Rising </a:t>
            </a: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by Kate DiCam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This novel is about cages – the consequences of escape as well as imprison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I know something that’s in a cage,” said Rob, pushing the words past the tightness of his thr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esday, August 26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he Tiger Rising"/>
          <p:cNvPicPr/>
          <p:nvPr/>
        </p:nvPicPr>
        <p:blipFill>
          <a:blip r:embed="rId1"/>
          <a:stretch/>
        </p:blipFill>
        <p:spPr>
          <a:xfrm>
            <a:off x="228600" y="3048120"/>
            <a:ext cx="1308240" cy="2255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5000760"/>
            <a:ext cx="150480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91040" y="5122800"/>
            <a:ext cx="5984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e no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 out book assignment  (due 9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vocabulary for Chapters 1-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1-6 aloud in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, August 27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352680"/>
            <a:ext cx="6248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 vocabulary for Chapters 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: Rob’s suit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: Sym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7-12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22-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590920" cy="215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054760"/>
            <a:ext cx="876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ymbolis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 Something that on the surface is its literal self but which also has another meaning or even several meaning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word may be a sword and also symbolize justice. A symbol may be said to embody an idea. There are two general types of symbols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versal symb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embody universally recognizable meanings wherever used, such as light to symbolize knowledge, a skull to symbolize death, etc.,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structed symb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are given symbolic meaning by the way an author uses them in a literary work, as the tiger becomes a symbol of the feelings and dreams that Rob has kept down for so l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, August 28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4724280" cy="30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9880" y="2819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cabulary - Chapters 13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 -  Sistine’s Firs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- 13-28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45-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61707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w the angel in the marble and carved until I set him free.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chelangel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, August 29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52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5720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- Chapters 19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 -  It’s Not Just A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– 19-24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69-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990720"/>
            <a:ext cx="4457520" cy="455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6600" y="579132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riday August 29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106668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86200"/>
            <a:ext cx="38862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Vocabulary - Chapters 25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andout –Vocabulary Hand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ead – 25-30 silently in class                    (pp. 94-1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3040" y="3124080"/>
            <a:ext cx="44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uesday September 2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55088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8004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ook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Vocabulary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egin writing the 5-Paragraph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1157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86200"/>
            <a:ext cx="44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047760" cy="253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3581280"/>
            <a:ext cx="3505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ing Domai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/Narra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tell what happens, real or imaginary.  Put in time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tical/Expository/Persuas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xplain, analyze, or persu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ory/Descrip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describe in vivid sensory detail; express individual feel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ctical/Informa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present information clear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September 3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September 4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3:10:42Z</dcterms:created>
  <dc:creator>Lisa Williams</dc:creator>
  <dc:description/>
  <dc:language>en-US</dc:language>
  <cp:lastModifiedBy>admin</cp:lastModifiedBy>
  <dcterms:modified xsi:type="dcterms:W3CDTF">2008-08-26T18:06:02Z</dcterms:modified>
  <cp:revision>23</cp:revision>
  <dc:subject/>
  <dc:title>The Tiger Rising by Kate DiCamillo</dc:title>
</cp:coreProperties>
</file>